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08914"/>
        <c:axId val="220376"/>
      </c:barChart>
      <c:catAx>
        <c:axId val="98508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376"/>
        <c:crosses val="autoZero"/>
        <c:auto val="1"/>
        <c:lblAlgn val="ctr"/>
        <c:lblOffset val="100"/>
        <c:noMultiLvlLbl val="0"/>
      </c:catAx>
      <c:valAx>
        <c:axId val="220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08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E6B-CAAC-475B-8CE2-DB66DF5E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EB6-F76C-4602-9E7F-5DFF18D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353-066A-4B59-9677-87C2BC36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366-DB39-439A-8939-BE98A02E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069-BC05-429D-A213-99067BD4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4E9-AE8A-4737-862F-E098A977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217-6227-457B-A78C-9BF83F2F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C0A-575B-482E-B7B6-484400CD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861-66B5-4806-930A-F00BD73F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5A9-8206-49A1-998B-E4EDA07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705-DEB5-4D31-8A1B-75684C1D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5D4-D768-42D5-810E-AC018483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E9FAF-0EF4-4F8C-BC09-8091423D0D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