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883311"/>
        <c:axId val="3473281"/>
      </c:barChart>
      <c:catAx>
        <c:axId val="628833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73281"/>
        <c:crosses val="autoZero"/>
        <c:auto val="1"/>
        <c:lblAlgn val="ctr"/>
        <c:lblOffset val="100"/>
        <c:noMultiLvlLbl val="0"/>
      </c:catAx>
      <c:valAx>
        <c:axId val="34732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8833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6466-5C9C-47B1-97E6-AC65EBB61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ADF6-D5D9-406A-9E79-B4833FF07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FC01-C4A9-48E7-B270-C85229551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DB73-2F01-4548-9969-69958333B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53FE-C4C9-4DA6-B573-959615665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F468-4244-416A-9FAC-43340A0A8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0C48-383F-4AA9-987D-5F831B6E6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24EB-9B30-4D05-99C4-EDDEBA19C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3D0C-5A4E-4CAC-8657-2826C1C3D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CC7E-4058-459E-A3BE-C26E14ED9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2BBD-1A58-4587-9122-28F4EC746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0D58-46F2-48FD-BFF1-86B8AFA5F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F825CC-3448-46A4-AEC0-327B4BB3C02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