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58127"/>
        <c:axId val="7713514"/>
      </c:barChart>
      <c:catAx>
        <c:axId val="74558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3514"/>
        <c:crosses val="autoZero"/>
        <c:auto val="1"/>
        <c:lblAlgn val="ctr"/>
        <c:lblOffset val="100"/>
        <c:noMultiLvlLbl val="0"/>
      </c:catAx>
      <c:valAx>
        <c:axId val="7713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58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3C4-CF8A-4EF1-A5D2-DC4BF1F2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099-742F-4235-A97E-479AC6FC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C22-657A-4DB7-B515-5D3312A4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29E-1EAD-48D2-8088-F1B24E39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28C-C2CB-436A-A0F8-0B804D05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DCF-8254-4038-A414-FBC98FF3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8C2-901E-48C7-AE8D-4326B188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167-9538-4AD3-BF9D-28D74987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217-F2B8-47E5-8120-0F55659F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D64-1BF1-4736-AC92-91A1561A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B3E-6A02-4886-8367-E473B532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193-D55A-46BE-839B-1236EE4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C029-D460-4528-BE78-1ABF5AE6AF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