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624808"/>
        <c:axId val="70185590"/>
      </c:barChart>
      <c:catAx>
        <c:axId val="566248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85590"/>
        <c:crosses val="autoZero"/>
        <c:auto val="1"/>
        <c:lblAlgn val="ctr"/>
        <c:lblOffset val="100"/>
        <c:noMultiLvlLbl val="0"/>
      </c:catAx>
      <c:valAx>
        <c:axId val="701855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248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1C4B-FB98-4AC9-BEB5-C3A34167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7DB9-19AB-44EA-937D-34F73BD3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77D6-44DA-40F1-9605-88844525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C9D-17C4-4C96-A55A-921142B7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1C1-FCB9-4C68-99E5-D8C7384D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487-8987-4FCB-B68D-F3532D84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929-2256-4C7B-BE2A-88AA0981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3CD-B4D6-4F90-BE1F-187882A9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C1A3-4D4F-4618-8D1C-7AB8863B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A42A-CDC6-4442-B66D-F3077662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A6DF-4022-47DB-A4B8-160E7FF5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5B64-B92B-4361-AB62-A3B80E2C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26D2B-DB94-4952-AE5D-9E6217814D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