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89221"/>
        <c:axId val="38754805"/>
      </c:barChart>
      <c:catAx>
        <c:axId val="20689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54805"/>
        <c:crosses val="autoZero"/>
        <c:auto val="1"/>
        <c:lblAlgn val="ctr"/>
        <c:lblOffset val="100"/>
        <c:noMultiLvlLbl val="0"/>
      </c:catAx>
      <c:valAx>
        <c:axId val="38754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89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B4E-DE2F-434B-A9F8-73F81B4E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815-D0E1-429A-8A1E-DF063CEE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2A6-C24B-4703-AAC6-199E9A5D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99A-6A7B-4033-88C0-C0503326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EAD-69B1-4C16-B976-91F81BF0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C53-62E5-4212-9E4A-4D3A6E4F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462-D34F-4852-B100-CCDC8E93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6F8-3D09-432C-996C-A43AFAF4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E67-4881-44C0-AFDD-A6C69D4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74E-21FA-4179-9C95-C8C4CEC4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EC4-AAC0-4AD8-907A-EA4C65B5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943-2946-41B2-83CF-0F512E0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C87A3-31CD-4A56-88DC-C981B6C814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