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4915034"/>
        <c:axId val="65883671"/>
      </c:barChart>
      <c:catAx>
        <c:axId val="4491503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883671"/>
        <c:crosses val="autoZero"/>
        <c:auto val="1"/>
        <c:lblAlgn val="ctr"/>
        <c:lblOffset val="100"/>
        <c:noMultiLvlLbl val="0"/>
      </c:catAx>
      <c:valAx>
        <c:axId val="6588367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91503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B6A9A-410E-489A-B0CB-B4D91F45E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0632A-0BB4-401C-929D-283D23FAD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0DA0D-E144-4EAB-9A1B-7D77C8456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370AD-7FB5-41A6-B455-7A55EA1F0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39CCE-D5BF-4510-9DA7-517503548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7F4A6-806D-47B8-A1BF-BC65F7A24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301BB-AA3D-47EA-BA12-AAF3B1179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D8F17-20FB-4A2D-A002-3947C4C20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6B29B-78CB-4F12-85EE-64264DE98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F5F4C-F776-4F98-A267-A15C18807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91F66-686D-48A9-9B7A-48B7E3AF7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DB4BF-A0D7-467F-90D3-E4C6AFEAF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2AA1CC-2F26-4AD9-9025-97D97E339E6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