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82627"/>
        <c:axId val="90341879"/>
      </c:barChart>
      <c:catAx>
        <c:axId val="65826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41879"/>
        <c:crosses val="autoZero"/>
        <c:auto val="1"/>
        <c:lblAlgn val="ctr"/>
        <c:lblOffset val="100"/>
        <c:noMultiLvlLbl val="0"/>
      </c:catAx>
      <c:valAx>
        <c:axId val="903418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826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3371-4262-460E-8882-F13E1929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1E91-2995-4DFC-8DE7-08C6BBFB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2644-164B-412A-B65A-B65D4F6E4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8651-B6BD-4D83-A17B-6ED40D320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4E4F-2235-4E4B-A93C-7025B5F8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1686-A269-4875-B532-8BB4DD38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A3ED-4213-404A-8BA2-1BD70D44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9008-114A-4A83-AF62-5874DD32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33B2-7C71-4A7B-9702-3E26E0B9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BD0C-3FC5-40DC-93E3-7D962B50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1209-9DE8-41CD-A862-2CF17AF5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D2E0-335B-46A0-9F7A-280D1BCC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52459-CA61-4EF8-8A00-DD8AEF02B3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