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475458"/>
        <c:axId val="30392674"/>
      </c:barChart>
      <c:catAx>
        <c:axId val="964754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392674"/>
        <c:crosses val="autoZero"/>
        <c:auto val="1"/>
        <c:lblAlgn val="ctr"/>
        <c:lblOffset val="100"/>
        <c:noMultiLvlLbl val="0"/>
      </c:catAx>
      <c:valAx>
        <c:axId val="303926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4754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EAA8-CC59-4488-8B24-8568EA6AC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C215-2726-41E3-8AB5-0935899B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7EC2-B0D5-4710-8040-1C06333E8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8B71-CBEF-4499-9543-B960ED673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826A-6B3F-46EF-A222-8300E2CAC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81D1-B16D-4C48-98BE-DA5C908B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D52E-B96E-495F-AFDB-371BA4CD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AF9B-465E-47F3-9031-70C095B5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C8DE-95E8-40FB-BB36-703E7DFA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3B89-A32F-4A20-8AAE-3FB6A408B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E3BC-7F4C-4CB3-BA58-09329743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DAB8-198F-45B3-9ADC-C0CA0021E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9972EA-A405-4B29-963D-80412103F61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