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09273"/>
        <c:axId val="37087675"/>
      </c:barChart>
      <c:catAx>
        <c:axId val="33709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87675"/>
        <c:crosses val="autoZero"/>
        <c:auto val="1"/>
        <c:lblAlgn val="ctr"/>
        <c:lblOffset val="100"/>
        <c:noMultiLvlLbl val="0"/>
      </c:catAx>
      <c:valAx>
        <c:axId val="37087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09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432-374D-421B-A13D-98EF522C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349-1B0C-4FF1-92B1-4C8EB687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8F0-969D-4E14-9856-10F0628A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5A2-0B34-41D4-B999-72BB26E1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958-80C4-430B-B3D9-F4F41B6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2CA-2E4A-4175-960E-46CC67A5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4B1-C200-40A6-8B4F-2CDF770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772-237D-49CD-A376-460FA398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780-876B-4E61-B8E6-822E2EAE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D35-6A99-4707-A675-9E8DD5B7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E45-E2C4-41B0-99F7-04D2490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D78-105C-482B-8144-DFE9892D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7EE59-DA0A-4ED9-8A6D-D6552C8E0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