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20415"/>
        <c:axId val="96268746"/>
      </c:barChart>
      <c:catAx>
        <c:axId val="62220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8746"/>
        <c:crosses val="autoZero"/>
        <c:auto val="1"/>
        <c:lblAlgn val="ctr"/>
        <c:lblOffset val="100"/>
        <c:noMultiLvlLbl val="0"/>
      </c:catAx>
      <c:valAx>
        <c:axId val="96268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0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302-F5F5-428C-B3E3-7D333951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8B2-9607-4D2F-9ADC-E2AEA42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963-1337-4D10-B132-9C2C627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9E0-E13D-4EC1-A8A1-8003185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E9D-3EB3-481E-9542-535B66A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BB9-3F56-44DA-95F6-B779241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0E3-40A1-450E-8757-A3C4BCDD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0E3-4D00-4079-8A32-7E8C8A3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9D7-38B8-4E3C-B354-F176E53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07E-5246-474B-AE85-3033DA2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A2A-33F6-4FCD-8788-913B0E5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AAF-BE38-44DC-A812-B8C825C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66FDC-3D32-4769-B923-1112AD6510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