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47554"/>
        <c:axId val="7298916"/>
      </c:barChart>
      <c:catAx>
        <c:axId val="52147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8916"/>
        <c:crosses val="autoZero"/>
        <c:auto val="1"/>
        <c:lblAlgn val="ctr"/>
        <c:lblOffset val="100"/>
        <c:noMultiLvlLbl val="0"/>
      </c:catAx>
      <c:valAx>
        <c:axId val="7298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7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780-7755-4D2B-9113-26522BB6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12A-B386-476C-B015-40A1BE52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25F-DD47-41FE-85D1-5E657C8E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79D-4B82-4BDC-A579-FBC2A87E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346-CCFD-4944-A231-C53B0DCE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C3D-70DD-46FE-85A9-83034B20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609-0870-43B3-B3D2-B766B857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528-03FE-4EC6-AF60-C218A5E6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392-ACE8-486A-B66B-B33493C3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563-5913-4258-89F8-8F8BB43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1FF-3EAD-4CD5-BF65-8DD1C71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CDD-31A5-40AE-80A5-8EF264D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2829E-7044-414E-A4B4-52DDE433EB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