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24064"/>
        <c:axId val="99586246"/>
      </c:barChart>
      <c:catAx>
        <c:axId val="49524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86246"/>
        <c:crosses val="autoZero"/>
        <c:auto val="1"/>
        <c:lblAlgn val="ctr"/>
        <c:lblOffset val="100"/>
        <c:noMultiLvlLbl val="0"/>
      </c:catAx>
      <c:valAx>
        <c:axId val="99586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24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901-6FD4-4BC2-96CA-4C76EC2C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839-BB9F-4035-B64E-87AE13C6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968-4E3F-4465-9EA3-6B416060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D06-93A2-4962-A227-896F406E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4A0-C6A0-49D8-BFBB-FD9CE34D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EF7-3EA1-4C70-A658-180AA6E8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865-7247-4821-BDAC-C6C20DE5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39C-D54C-4A94-B521-AD0A5119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C90-A8DE-4ADA-B150-44713DDE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2CA-623F-409C-A913-FD047C98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05E-3393-4C7A-9340-D91CF7EA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7D6-87B1-45C4-BCE4-CA420EF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BEA6D-3E16-4DA4-AD5F-D204E354DF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