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92816"/>
        <c:axId val="29198349"/>
      </c:barChart>
      <c:catAx>
        <c:axId val="17092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98349"/>
        <c:crosses val="autoZero"/>
        <c:auto val="1"/>
        <c:lblAlgn val="ctr"/>
        <c:lblOffset val="100"/>
        <c:noMultiLvlLbl val="0"/>
      </c:catAx>
      <c:valAx>
        <c:axId val="29198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92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8AC-092F-4736-9C43-F41FDC73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9AC-C9E6-44E2-BBB1-798C9317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BDA-17BB-4F20-A4BD-5D737C5A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5A3-F9BF-4E9A-A27B-74A90AE7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3BC-878C-42DD-822B-0BAF5B9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A18-D186-46C5-8508-E38F51E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4A7-7C88-4885-85D7-BC582078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DD0-BF03-4540-B53C-E0B75BFC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2F2-8075-41BF-B357-A7E17B3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D78-C3A1-48BB-B2E5-328B49D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B23-80D8-4ADD-B8AF-C01C795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BAC-EF06-488D-8C3C-0946AF1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FACF-A114-4C3D-B081-21F8579248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