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74687"/>
        <c:axId val="62291649"/>
      </c:barChart>
      <c:catAx>
        <c:axId val="79674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91649"/>
        <c:crosses val="autoZero"/>
        <c:auto val="1"/>
        <c:lblAlgn val="ctr"/>
        <c:lblOffset val="100"/>
        <c:noMultiLvlLbl val="0"/>
      </c:catAx>
      <c:valAx>
        <c:axId val="62291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74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D64-39C8-4788-96E1-A9F72421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D82-957F-487D-890F-1E31BF8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A54-1665-41E0-AEC3-778FED7F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B3E-15CA-4AC1-B9BD-5BF8AF57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DBD-ACE3-4B93-AE14-91FBC770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43A-A380-47E0-B92E-CF3FFBAE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5A5-E703-4870-8966-282C6745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465-1131-47DE-9008-AA8EC73E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FE0-7610-4AA7-8A8F-12EE73D2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848-5DBE-412F-9E6C-FD55C034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3FA-764C-4188-82E8-250A3143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B6F-C4C0-4CE9-A902-659248FB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4AC33-DCA2-4FD0-8185-D2942B9E5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