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238"/>
        <c:axId val="5708766"/>
      </c:barChart>
      <c:catAx>
        <c:axId val="594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8766"/>
        <c:crosses val="autoZero"/>
        <c:auto val="1"/>
        <c:lblAlgn val="ctr"/>
        <c:lblOffset val="100"/>
        <c:noMultiLvlLbl val="0"/>
      </c:catAx>
      <c:valAx>
        <c:axId val="5708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72A-089E-424D-AFB0-BF9F1B4D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FBE-15DC-4E6D-8E24-DFA8FF99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5E6-BFAB-41E0-BA1D-619FA15B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911-4A3D-40F3-B674-AC081578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A33-350E-40A6-A539-C04ED433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215-1E30-4344-8BA6-7989DAF3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091-D40F-40C4-ACF4-B703610C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BCB-E4FA-49EB-803B-E211FC95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98B-AF92-4622-9697-555AECE6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313-A8BC-45D8-92B5-FC296250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714-2860-41E8-A69B-7EC6F87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058-A139-46C3-8800-0C7F0AA8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1BDCC-A186-43B7-ABA7-FA5EA63A37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