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302236"/>
        <c:axId val="70413083"/>
      </c:barChart>
      <c:catAx>
        <c:axId val="45302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13083"/>
        <c:crosses val="autoZero"/>
        <c:auto val="1"/>
        <c:lblAlgn val="ctr"/>
        <c:lblOffset val="100"/>
        <c:noMultiLvlLbl val="0"/>
      </c:catAx>
      <c:valAx>
        <c:axId val="704130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02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C8F-98BB-4FBA-BA0D-A862D584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24A0-1CAF-4E27-96B4-B3F86184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F1F0-DE8B-4B7A-BD11-81E96664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EFA-47CA-4210-AE7A-ECBD466C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3548-D94B-44E2-A546-ACC058E7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4C7-9FB6-4871-BA17-84037722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31C-4122-41F6-9E94-0FDFBA35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80D-4ABB-422E-BB99-AE9015EC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008-7789-4F5A-B2CE-753EAAFE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8CF-E279-437A-8827-C35BD3E9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BA30-BA59-40D6-83F5-8FB5E20A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68D-9699-4888-823F-B93C7D9A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1FED2-656E-4E75-8C27-0714BAD58C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