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12574"/>
        <c:axId val="11477450"/>
      </c:barChart>
      <c:catAx>
        <c:axId val="14412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77450"/>
        <c:crosses val="autoZero"/>
        <c:auto val="1"/>
        <c:lblAlgn val="ctr"/>
        <c:lblOffset val="100"/>
        <c:noMultiLvlLbl val="0"/>
      </c:catAx>
      <c:valAx>
        <c:axId val="11477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12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CA1-3B94-4D3B-8CB7-27BA467A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03A-8812-47EA-B1CE-D9335CB9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D57-FE33-41B1-B7DD-5628402C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4DC-B64E-4A89-A448-D10CD752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259-2A64-425D-A1D0-55A21CA4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104-1B8D-436C-A7CD-EE266FD3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F0A-5AA0-441C-8237-850BFD2C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C50-9283-44E5-8F69-9A8676F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C2F-4906-43C5-88A9-673BAF05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45B-1DB2-4C2D-8968-1AA44168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1ED-79C4-458C-A5B5-B9DFA224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D04-BDDD-44D5-8BD5-0B19F96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53179-DE4A-4645-9029-8199A5503B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