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77885"/>
        <c:axId val="73608916"/>
      </c:barChart>
      <c:catAx>
        <c:axId val="32477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08916"/>
        <c:crosses val="autoZero"/>
        <c:auto val="1"/>
        <c:lblAlgn val="ctr"/>
        <c:lblOffset val="100"/>
        <c:noMultiLvlLbl val="0"/>
      </c:catAx>
      <c:valAx>
        <c:axId val="73608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77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A07-506F-410C-AFE4-1225F254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75E-ADB9-4F5D-9DB2-550FD8E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F40-FD4D-4F89-B550-64909E63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D87-67D2-45D4-996E-2C20BFC5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591-9983-41D9-A7C0-D8128A2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496-3421-4A5F-AD30-10ED3A0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6F6-FE22-4E31-9FC3-46D85CF7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3A1-32E6-4EAD-A494-1176A38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E72-E702-4899-95EB-46F69A53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F52-A272-4074-9C0B-3B47DC7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CBD-8ED0-4ACD-A858-51A3992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908-1E94-4973-A75C-925A52C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BF6E8-2FED-4089-BBB2-811333286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