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577568"/>
        <c:axId val="94140694"/>
      </c:barChart>
      <c:catAx>
        <c:axId val="985775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140694"/>
        <c:crosses val="autoZero"/>
        <c:auto val="1"/>
        <c:lblAlgn val="ctr"/>
        <c:lblOffset val="100"/>
        <c:noMultiLvlLbl val="0"/>
      </c:catAx>
      <c:valAx>
        <c:axId val="941406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775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EE25-7149-4EC2-9057-5E8EA886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4BFD-942C-4977-945F-6D40DB07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1B2B-40C2-46F3-B70C-CF8260940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793C-4BC6-4DC7-B526-874DD4A37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432C-8BCB-4B80-BED8-42005C83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75E0-89E9-4985-83A9-71C87737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EDF5-6EAA-4C11-9A2C-9D64A6AD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B556-14B0-4D23-AFD8-EC6ABBFC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A432-ED4D-4405-83C6-1A97D8D0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E5EE-D0E5-4210-80AE-9ADB56C4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6563-78EB-44A1-A4FF-C10E051E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123C-DDF8-4B50-BF87-91C67E51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2E97D-C224-48A7-9BBD-2FB1C9D09D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