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109750"/>
        <c:axId val="27410593"/>
      </c:barChart>
      <c:catAx>
        <c:axId val="401097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10593"/>
        <c:crosses val="autoZero"/>
        <c:auto val="1"/>
        <c:lblAlgn val="ctr"/>
        <c:lblOffset val="100"/>
        <c:noMultiLvlLbl val="0"/>
      </c:catAx>
      <c:valAx>
        <c:axId val="274105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097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4046-62D5-4A74-9C46-8BC8743AD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A897-F823-4308-B607-9A630987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60E0-9BE8-4989-9B01-EC2258032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E6D9-5C61-4296-95A9-2F093E36A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9F79-D894-49F8-8D9D-D4046B2F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F7FA-9FE9-4828-AAFA-D410A7DD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E0E2-C504-4184-9876-A68199DE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4683-0729-4D26-B607-83C51584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F4ED-1948-48FA-8B7D-AC8100F9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68FA-A24A-4E05-A0A4-184AC009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BD4E-C235-4522-9A5D-881FA643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3571-4CBE-42F9-9499-3DA7151F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D6EF1-25B0-4A29-B2DC-6353DD4564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