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95168"/>
        <c:axId val="99047946"/>
      </c:barChart>
      <c:catAx>
        <c:axId val="60295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47946"/>
        <c:crosses val="autoZero"/>
        <c:auto val="1"/>
        <c:lblAlgn val="ctr"/>
        <c:lblOffset val="100"/>
        <c:noMultiLvlLbl val="0"/>
      </c:catAx>
      <c:valAx>
        <c:axId val="99047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95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05D-1B31-4D5F-A69C-C74183C3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E79-C236-4E41-BFB4-6B62929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5D5-68C5-4C8D-AD0D-8AEF66C3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82F-53DE-4A21-BFE2-8E811CDB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89D-97D0-42F7-A2BA-11CF9F6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25E-7C62-44A6-8C67-F88AE9BE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B76-1BF6-4555-8D77-3B33461E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68-7119-45BC-AE56-227CACC1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9EF-F3C1-4338-B687-FDBD0C53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755-9343-4DCD-BEDF-ADC96624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6A4-8D77-440A-83DD-3E71D1B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3F3-62DC-47F5-B71B-EAAA39B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CB9B5-DF0D-469B-98FA-37E347370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