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35380"/>
        <c:axId val="7480589"/>
      </c:barChart>
      <c:catAx>
        <c:axId val="36035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589"/>
        <c:crosses val="autoZero"/>
        <c:auto val="1"/>
        <c:lblAlgn val="ctr"/>
        <c:lblOffset val="100"/>
        <c:noMultiLvlLbl val="0"/>
      </c:catAx>
      <c:valAx>
        <c:axId val="7480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35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0EB-A1EC-4A4C-882A-3AB44912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578-0BEA-4483-8FB0-5DB2CAA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333-D22F-4D7D-951E-84E8B6B4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54A-DB91-480E-9A4D-C7DFD312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33-DD61-45F2-A6F2-2AA2CC2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CCB-FF49-4E6A-B60D-A580A396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E28-E1E3-4EBD-835F-54CAF967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5F9-699C-43C8-B992-81A83E6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580-185B-4832-9199-7377746E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A77-42DB-43ED-86D9-F10C38B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6C5-F96B-4B86-848D-67878208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234-7513-403F-9DB4-BDE9E647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0FEBB-F371-4ABB-A4B1-A6C7848B2B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