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27803"/>
        <c:axId val="54715859"/>
      </c:barChart>
      <c:catAx>
        <c:axId val="23327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15859"/>
        <c:crosses val="autoZero"/>
        <c:auto val="1"/>
        <c:lblAlgn val="ctr"/>
        <c:lblOffset val="100"/>
        <c:noMultiLvlLbl val="0"/>
      </c:catAx>
      <c:valAx>
        <c:axId val="54715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27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CEA-5F12-40B7-872C-637CCC63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C09-F9F9-4026-BE82-BB73681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CA4-70E9-49D1-927A-B4A309DC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102-6828-426B-9CDE-DBDF12F4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CF3-AA8A-4AB8-B9BB-6436AD74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191-0458-4A68-A341-1823D7D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E55-1AA2-4B01-8BD7-45E9A4EE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4BC-1AB3-4927-8879-D58D8BD4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92F-C8FA-42F3-BC7D-FF4ED80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369-44B1-421D-A48D-786D0CD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E30-6D09-4E29-849C-86E8C50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624-DF10-42FC-A369-AAD4E65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04390-E185-4164-AE32-EFA4AD19CE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