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672215"/>
        <c:axId val="18913817"/>
      </c:barChart>
      <c:catAx>
        <c:axId val="766722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13817"/>
        <c:crosses val="autoZero"/>
        <c:auto val="1"/>
        <c:lblAlgn val="ctr"/>
        <c:lblOffset val="100"/>
        <c:noMultiLvlLbl val="0"/>
      </c:catAx>
      <c:valAx>
        <c:axId val="18913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6722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C04-9326-40A4-9A80-85E0CB01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519-9E82-4905-963B-419FE42F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BE8A-9113-4301-A093-71FFF506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4B7-B424-448E-B14C-25A40EDF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DEC-864B-4132-8924-4F31E652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778-47E3-4FC5-B34F-CDEE6FC3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E13-06E8-44D9-BA9D-5F9F2F9D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727-7495-4B68-B058-D9657F0C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495F-60A6-4028-8E9E-E20BBEEB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DB22-4DAD-4D51-AFA7-97382A14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7F2-BCAF-4C0A-B73E-1492FF56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DC3-C106-4BD6-A984-C6450EE9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3BAAB-E91E-4DBC-8B45-06F2D14FB9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