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27148"/>
        <c:axId val="2021267"/>
      </c:barChart>
      <c:catAx>
        <c:axId val="29027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21267"/>
        <c:crosses val="autoZero"/>
        <c:auto val="1"/>
        <c:lblAlgn val="ctr"/>
        <c:lblOffset val="100"/>
        <c:noMultiLvlLbl val="0"/>
      </c:catAx>
      <c:valAx>
        <c:axId val="20212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27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5712-62CC-447D-905F-92CC9005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18D0-96FD-46AB-AE97-8FB95D12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FDCF-54D7-48D0-88F8-555A726C8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5848-800D-4D20-B867-F8CF3E03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AC6C-C2E7-46D3-9AB9-CEA23D1A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2C51-76F3-4F48-9469-9D084616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1A6A-1B41-4877-937D-15DB8F07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92C0-4985-458F-A584-4684D41E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C42-7A63-4C1E-B66A-C1E6D5B5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C340-F005-4FCE-878C-FDFE0662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646C-5340-4EBF-9D4D-8C07E0D6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E562-4607-404E-8612-CE473495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207F5-4432-44FD-B986-84A177D3AB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