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94794"/>
        <c:axId val="16818282"/>
      </c:barChart>
      <c:catAx>
        <c:axId val="16894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18282"/>
        <c:crosses val="autoZero"/>
        <c:auto val="1"/>
        <c:lblAlgn val="ctr"/>
        <c:lblOffset val="100"/>
        <c:noMultiLvlLbl val="0"/>
      </c:catAx>
      <c:valAx>
        <c:axId val="16818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94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5AF-E947-48E5-8562-B9D44977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FBA-D056-423A-954F-8DFC1381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A50-232F-444F-B6F8-809E08D3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CEC-F054-4881-B50F-33205E70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5AB-45C5-4172-9B2C-1C42C244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90F-1EE2-4275-B385-BE0841B9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17C-AE4C-4613-8E83-3F051BB6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128-A27F-474E-952D-C22BB627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448-C37C-4640-9614-141C3937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EA9-EBB7-43E2-B0EC-5DE82575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722-A028-459F-B248-0CCFC009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4A2-641A-45A0-B595-F032A9A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B035E-4893-4E76-8973-A32BB3451C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