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440894"/>
        <c:axId val="23854592"/>
      </c:barChart>
      <c:catAx>
        <c:axId val="144408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854592"/>
        <c:crosses val="autoZero"/>
        <c:auto val="1"/>
        <c:lblAlgn val="ctr"/>
        <c:lblOffset val="100"/>
        <c:noMultiLvlLbl val="0"/>
      </c:catAx>
      <c:valAx>
        <c:axId val="238545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4408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01C0-A5D4-4BCB-BF4A-5BFEC2DE1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FB51-B371-400E-936B-8443602C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D6BD-39E7-401A-8887-FEB119944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2022-51AD-4996-808A-7CAF1D817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883A-3F17-4A41-8D0C-D5065D71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F317-29E0-4912-8671-81D59C32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45C9-9253-42DD-90BD-BE39AA88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ED06-CA7A-45FA-99AE-216DE2F4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0B93-AB4B-4470-B38A-E5557FA0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B395-DDF6-4F10-9914-8C5D40B3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409D-562D-4F6A-A6B6-9F256534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FE48-187E-46B4-B63A-C4539AF4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30672E-89E8-4182-9831-59952D6DE6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