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76775"/>
        <c:axId val="11659288"/>
      </c:barChart>
      <c:catAx>
        <c:axId val="29976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59288"/>
        <c:crosses val="autoZero"/>
        <c:auto val="1"/>
        <c:lblAlgn val="ctr"/>
        <c:lblOffset val="100"/>
        <c:noMultiLvlLbl val="0"/>
      </c:catAx>
      <c:valAx>
        <c:axId val="11659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76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985-0921-4AC2-B65F-516A6D42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479-31D7-42F4-9FF2-80834689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866-71D9-4301-8533-5752FE07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3251-2CDB-4A67-A38A-BD3DD749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B07-B509-49E7-A0AF-0FBD5F3F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240-2D33-4620-8621-C8DFEDAA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C3E-CB84-418B-9631-52AB331B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88F-AED9-4ADE-98E3-4E9880C7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31F3-CCFF-4510-8ECD-A279E858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060-A3C3-4F32-8E77-DC463D01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F0E-7433-4C5E-A17D-B98246FE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E3C-75EC-4D2B-856F-7B2E0D9A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F4488-935F-455B-904B-667CBDE344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