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86137"/>
        <c:axId val="15169853"/>
      </c:barChart>
      <c:catAx>
        <c:axId val="39186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69853"/>
        <c:crosses val="autoZero"/>
        <c:auto val="1"/>
        <c:lblAlgn val="ctr"/>
        <c:lblOffset val="100"/>
        <c:noMultiLvlLbl val="0"/>
      </c:catAx>
      <c:valAx>
        <c:axId val="15169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86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84B-5292-45F5-BA25-37421269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98B-5F15-4967-B82E-15628A98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505-B44D-4C2F-85A5-21B3FBD1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BBD-F9BB-4A12-9CEF-6F4787DB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2D3-4FB0-4538-84CC-5BBA8915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D20-EFF4-45E2-A6EA-382B1B74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1C1-3A23-4EE9-9E01-F0E6EBD8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4EC-5C9C-480D-993D-215719DD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A85-345E-48CA-970C-F6460027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01D-B343-40DE-A75B-8895575D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BA0-E13E-48B7-A402-A1B0B487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7AF-1FA1-496B-A04F-BD344602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60CDA-02AF-4BEA-8E38-AB9FEB24A0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