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40196"/>
        <c:axId val="85080027"/>
      </c:barChart>
      <c:catAx>
        <c:axId val="339401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80027"/>
        <c:crosses val="autoZero"/>
        <c:auto val="1"/>
        <c:lblAlgn val="ctr"/>
        <c:lblOffset val="100"/>
        <c:noMultiLvlLbl val="0"/>
      </c:catAx>
      <c:valAx>
        <c:axId val="85080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401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D3BC-8D03-40AA-9997-9AFC3C08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1E8-7B5F-401F-B25B-EAED6E50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FBD-C98C-48E9-B763-9DD62C8D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C84-D4AC-44BB-9867-3F3AB87A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EBB1-84A7-4479-848D-7A20F148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1D7-645C-4F11-94E3-B71EE3BA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16F-8D48-4FC8-B826-A32C7208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6DEF-C419-425C-BB42-600C8AD9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C35B-B6DA-403A-A495-4266798A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EE2-26B0-4CDE-9C46-5A101237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7526-4596-441E-AFE5-4147A9B2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D0A-D6F4-42C1-881C-E84A53AB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3510E-99C5-49C2-BC82-4B754BCCF2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