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83635"/>
        <c:axId val="95749264"/>
      </c:barChart>
      <c:catAx>
        <c:axId val="63383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9264"/>
        <c:crosses val="autoZero"/>
        <c:auto val="1"/>
        <c:lblAlgn val="ctr"/>
        <c:lblOffset val="100"/>
        <c:noMultiLvlLbl val="0"/>
      </c:catAx>
      <c:valAx>
        <c:axId val="95749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83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C0B-DD93-4A58-AE21-0C4C942F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0BF-1C75-4510-8A82-DECA5E81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493-9E8E-48E5-893A-A6BD38A6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DF8-B7AF-4A23-B7EC-28B3C5A4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6A4-6EFD-4F23-90DB-E9C3E5F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AFC-4B5A-4EAF-9873-AAF58000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1AD-8718-4CB9-8755-4DF351C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859-D596-44F4-9873-2FAE8924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89C-66CD-4416-A9DF-53BCDF86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463-9477-4144-BC86-6B346B7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E40-623C-4ADA-ABEC-4DD8BFCE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79E-F321-4341-92E3-7DB8253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7AF72-6BA4-4E5F-A70F-F0367D1038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