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46219"/>
        <c:axId val="85886423"/>
      </c:barChart>
      <c:catAx>
        <c:axId val="52546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6423"/>
        <c:crosses val="autoZero"/>
        <c:auto val="1"/>
        <c:lblAlgn val="ctr"/>
        <c:lblOffset val="100"/>
        <c:noMultiLvlLbl val="0"/>
      </c:catAx>
      <c:valAx>
        <c:axId val="85886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46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859-A810-478D-8D05-4CCF44C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C8A-0CEA-4D61-ADEA-3B92AA5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05D-7211-4480-A5A3-C09D3C9F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8AC-C9EF-4A69-85A0-F1FC4E25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7F3-27F0-4E03-A518-2F088CA6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6BA-95FE-48CE-A5D1-1D6B12F1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F72-1A5D-4C61-B3A5-E9914A3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5E9-A764-4B67-BDFD-6F8136F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C1A-4CBA-4249-9FDC-40D6225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112-416B-434E-B099-20B6CA4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CD9-CC2F-49D9-8CB6-940A211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9C7-CF47-47DB-A06D-6DC598BE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BEE09-83D4-4A25-B76C-9061C120E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