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24957"/>
        <c:axId val="98882303"/>
      </c:barChart>
      <c:catAx>
        <c:axId val="10424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82303"/>
        <c:crosses val="autoZero"/>
        <c:auto val="1"/>
        <c:lblAlgn val="ctr"/>
        <c:lblOffset val="100"/>
        <c:noMultiLvlLbl val="0"/>
      </c:catAx>
      <c:valAx>
        <c:axId val="988823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24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5750-EA79-498B-8EA8-BB53B081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CFC-05DB-4638-AB9B-82E26D0D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F8F-5224-433C-9BDC-0D825DD6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0E56-1921-46A3-9114-92455789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C685-1546-4669-A4C9-C9800BBE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AAC3-C1F9-4F0D-83BD-AC57DED4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112B-AF11-40F3-B785-EBF98F23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510-6A9E-4C09-BF0F-560E91B9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F840-EF0A-40D2-A669-026E4352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4630-1038-456D-8C9B-09C4CCF8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2A2F-C3E8-401E-BB39-5EB61F43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657C-5101-4183-AF8A-D40CF57B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99F0C-9FF7-4A50-A694-830A6F99EB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