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940072"/>
        <c:axId val="85169620"/>
      </c:barChart>
      <c:catAx>
        <c:axId val="999400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169620"/>
        <c:crosses val="autoZero"/>
        <c:auto val="1"/>
        <c:lblAlgn val="ctr"/>
        <c:lblOffset val="100"/>
        <c:noMultiLvlLbl val="0"/>
      </c:catAx>
      <c:valAx>
        <c:axId val="851696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9400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000F-4D4B-4575-A4F8-49E2E2BE7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1727-D56E-4437-AA85-48D339368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6C4B-5A7C-439E-9CED-DAC128F5F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F0C4-3D88-463F-B01B-88A49BA57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9D5F-B68A-4FA6-934B-BF010CE25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ADEE-C2CC-4CA2-8F3E-FFC3E0032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8954-33AC-48AF-A530-69AFF9987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D627-ACBB-4E7A-8EB3-04637200C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CB19-B84D-4429-91C1-87DD82E0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F965-CB66-40AC-9789-842544AE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2707-5DE0-4547-9DCB-0D2532CC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DCDF-21D1-4631-A897-4124FE4A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77943E-398D-4B99-B7D7-FDC78B036EC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