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69218"/>
        <c:axId val="1314539"/>
      </c:barChart>
      <c:catAx>
        <c:axId val="34069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4539"/>
        <c:crosses val="autoZero"/>
        <c:auto val="1"/>
        <c:lblAlgn val="ctr"/>
        <c:lblOffset val="100"/>
        <c:noMultiLvlLbl val="0"/>
      </c:catAx>
      <c:valAx>
        <c:axId val="1314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69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714-2344-4919-9948-E4411E87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BA6-9324-44E9-A250-DE79D362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CBF-1EE9-4960-A8A0-3ACBC9D4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2B6-0025-48F8-BF8E-90E9FF0F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882-D7FA-498C-888D-78D6ED3F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CE0-3550-4DA7-9DFE-B1194D8D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CA7-B2D8-4D6C-B1BB-F7249B14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AD9-D55B-4FBB-8AB5-B9D5542E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097-40AD-4911-B251-3EC2F44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55B-1D80-45EA-8AFC-8FDA983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FC2-56F6-4926-9654-F50C0E6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6C7-9734-4939-A79B-FB17AAFA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E3A40-2E3D-4B5E-8A0C-BCD542C2DE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