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853637"/>
        <c:axId val="54174430"/>
      </c:barChart>
      <c:catAx>
        <c:axId val="788536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74430"/>
        <c:crosses val="autoZero"/>
        <c:auto val="1"/>
        <c:lblAlgn val="ctr"/>
        <c:lblOffset val="100"/>
        <c:noMultiLvlLbl val="0"/>
      </c:catAx>
      <c:valAx>
        <c:axId val="54174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536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C15-96B2-40C9-A489-F8E8B130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71D-12F8-4ED8-A6DA-8845B378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1665-B070-43A4-A5E9-68EE5CA8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BD3-2803-46FE-9C2F-B3D3DA0E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F22-F971-40DC-B346-FF9093D6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9926-8E7E-4977-9EAA-46803457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344-C57E-42E0-BDC6-B2BB4D67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F5F-9E1F-413F-9090-51985A29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AB7A-A8FC-4B93-A6D2-7E391D3D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4E4-526C-4E21-BBDA-808960C9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558-B19C-4CEB-B1FB-EDF56985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858C-3660-48D4-8CC1-24582498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CCFA6-7774-473F-BDC4-5F7A843E35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