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74835"/>
        <c:axId val="5004906"/>
      </c:barChart>
      <c:catAx>
        <c:axId val="84274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4906"/>
        <c:crosses val="autoZero"/>
        <c:auto val="1"/>
        <c:lblAlgn val="ctr"/>
        <c:lblOffset val="100"/>
        <c:noMultiLvlLbl val="0"/>
      </c:catAx>
      <c:valAx>
        <c:axId val="5004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74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FC7-D7F6-45B3-8069-21E39872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5A7-FDF0-4283-8991-550D90F8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2BB-9391-4C0E-8520-2A8E0C90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FF14-C1C8-4330-AF06-F40870EC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4CD-7AEA-4F6B-A7EB-2B3D6D9A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D1D-0CBA-44EB-A9CE-BF9C15E7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E67-D677-4982-941F-267952EE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C9E-F372-492F-8BFB-D7E85C2F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B9F-3D36-4FCE-90EE-A52E89D3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C71-3EE2-4312-B47A-553C35CF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308-D0ED-4716-AB53-E6560F3E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BBA-59D1-4AF5-9919-8EC2AA5A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E953D-16FD-4F9D-B0EC-AEDAB0622E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