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3892"/>
        <c:axId val="94338969"/>
      </c:barChart>
      <c:catAx>
        <c:axId val="5193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38969"/>
        <c:crosses val="autoZero"/>
        <c:auto val="1"/>
        <c:lblAlgn val="ctr"/>
        <c:lblOffset val="100"/>
        <c:noMultiLvlLbl val="0"/>
      </c:catAx>
      <c:valAx>
        <c:axId val="94338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3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7F0-C160-49F3-A379-164DEF23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D76-5CD5-4649-B6F3-EF498AC1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C0E-3043-4139-B273-F837375A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AA2-E3B7-44F2-8C0B-996000DE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F3F-6691-4FBF-A836-9396513F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230-09C8-40FC-AB64-CEF2D892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B9E-4353-40D3-8161-F17406B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758-E85B-46E3-A4BA-C491A1CC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57D-B4BB-4A78-99CB-988A2A6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A4C-9330-478A-9E65-7FD5390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5E5-24E1-4664-8DDA-D5CD9A7D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45F-A77D-489E-98DE-5193694D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DD58D-D7F2-4425-8B35-D7097BE90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