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06087"/>
        <c:axId val="87438353"/>
      </c:barChart>
      <c:catAx>
        <c:axId val="39906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38353"/>
        <c:crosses val="autoZero"/>
        <c:auto val="1"/>
        <c:lblAlgn val="ctr"/>
        <c:lblOffset val="100"/>
        <c:noMultiLvlLbl val="0"/>
      </c:catAx>
      <c:valAx>
        <c:axId val="87438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06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962-BE53-4C0A-A1FB-A8B0C917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E6B-D713-41FE-9F0A-4BE10A1C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9F1-B188-439D-BA85-86006D66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DCD-A552-4D96-B01E-A14C4275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15D-BECD-4864-9D98-5FBAE91D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9DC-B38F-4541-9433-E093BE97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B7B-EE4D-4207-ADAA-89118AAF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AE1-88BA-42E8-A7AB-D9BB9F40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039-0F83-4329-96D4-588FA500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EFC-A597-4B0E-8F21-5151FA2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8BA-A360-44CD-A587-B906C7D3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BCE-2074-4A35-AA7F-7B7E6FC0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D1F59-367C-4D1C-9C30-2AF424285C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