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39409"/>
        <c:axId val="6337127"/>
      </c:barChart>
      <c:catAx>
        <c:axId val="19439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7127"/>
        <c:crosses val="autoZero"/>
        <c:auto val="1"/>
        <c:lblAlgn val="ctr"/>
        <c:lblOffset val="100"/>
        <c:noMultiLvlLbl val="0"/>
      </c:catAx>
      <c:valAx>
        <c:axId val="6337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39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939-F435-42F0-B2A0-3F205FCC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A77-1D91-43AE-B73B-61F36AA6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D96-5C6C-4EFA-8C65-E8CD2D73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C29-D5B6-4D78-B7F3-9559EA9C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71E-2C2D-4D25-A0F0-07448DD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245-D584-40BA-B4C4-B36FAB9F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FFE-1E9D-44B3-AAA6-5828C16E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EF9-461B-47B5-B446-2BDAAF25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DA8-463B-49AE-A51F-D274989F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C42-6CC3-4FCB-BFD7-817FA7D6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36F-DCA6-465D-8816-ACBFCB65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58F3-ACD6-46E9-93CB-9E0AADE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A1797-8D41-4F0A-B81E-91192DADB0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