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82643"/>
        <c:axId val="83308193"/>
      </c:barChart>
      <c:catAx>
        <c:axId val="37282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08193"/>
        <c:crosses val="autoZero"/>
        <c:auto val="1"/>
        <c:lblAlgn val="ctr"/>
        <c:lblOffset val="100"/>
        <c:noMultiLvlLbl val="0"/>
      </c:catAx>
      <c:valAx>
        <c:axId val="83308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82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2FB6-166A-4964-85D9-58B2E3CC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E5F-A3CF-4E8F-A47A-64AFEE5F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174-0A8E-4A96-9DC1-6A1262B2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93A-27E9-4DD2-908E-2DAAEBC3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5F6-9699-4454-9743-CB4256A1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00F-C181-414D-A4E4-6667150F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E50-CD24-46A7-9B17-8DEB3D02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6E0-A5BD-4797-80ED-DAF0C216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BFB8-C4D2-40A7-B00C-EEF35835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9C1-FB06-44E8-B37D-8EDF4BE1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4608-22F8-4CD6-8899-5331D1E4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43F-C409-4A38-B990-AB534B2B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534BA-72E6-466C-B91E-78A8D9B35E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