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56592"/>
        <c:axId val="58521293"/>
      </c:barChart>
      <c:catAx>
        <c:axId val="19156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1293"/>
        <c:crosses val="autoZero"/>
        <c:auto val="1"/>
        <c:lblAlgn val="ctr"/>
        <c:lblOffset val="100"/>
        <c:noMultiLvlLbl val="0"/>
      </c:catAx>
      <c:valAx>
        <c:axId val="58521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56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18E-4155-4232-B8EC-2CC15E49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E7A-A166-4554-A214-FD8DA7A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F2D-6F0D-43DF-9672-CBA55D56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2E3-2C0B-4BCF-928E-97A753C7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748-287F-41F3-915F-2495CD4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271-A9C7-445D-8136-E9D07C9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5EF-2CF7-4D57-9FBC-660E80C1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983-DFA3-4CC6-9384-BB22E34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317-8F65-4DD7-930A-9764904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881-C81A-436F-AE6B-54B49FF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5F1-8C53-4006-8357-7EFDCAA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CF8-B91D-483C-8228-3244053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4CAD7-CD42-47D0-B3FC-41B00907E1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