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92560"/>
        <c:axId val="17924828"/>
      </c:barChart>
      <c:catAx>
        <c:axId val="31592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924828"/>
        <c:crosses val="autoZero"/>
        <c:auto val="1"/>
        <c:lblAlgn val="ctr"/>
        <c:lblOffset val="100"/>
        <c:noMultiLvlLbl val="0"/>
      </c:catAx>
      <c:valAx>
        <c:axId val="17924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92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2558-2B95-4ED0-A8C9-3875C55C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115-1EC1-4E3E-B48B-242595DCE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92E6-CD04-4399-BCE2-5689D381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991-FF7A-4087-AB72-952C01E0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6CF-15B0-4DFB-A84D-70B7100BF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CAC-6608-4B14-B204-DF54A859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F135-FDA9-47F3-9A99-30C5263F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BF2-5DD9-4F30-811F-15D2D910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EEA6-FFDC-4D33-9A70-EACD8C62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082-D81E-4951-8BEE-CE9953BB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8A3-D820-4546-BF2B-F0A5E3EB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3022-FCDF-45CE-98C7-B6634DA1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E3A335-5B7F-493B-8285-4170A7449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