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607722"/>
        <c:axId val="95168080"/>
      </c:barChart>
      <c:catAx>
        <c:axId val="486077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168080"/>
        <c:crosses val="autoZero"/>
        <c:auto val="1"/>
        <c:lblAlgn val="ctr"/>
        <c:lblOffset val="100"/>
        <c:noMultiLvlLbl val="0"/>
      </c:catAx>
      <c:valAx>
        <c:axId val="951680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077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0E28-1FEB-49A2-8390-532368CD1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55A7-48C3-4E0B-89AC-08B22D13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AB73-1883-4444-9271-E5F207805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9B15-50C8-4727-93A1-227DF0CFF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D930-9866-4455-9E3B-5C841209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47A9-EDFA-4D91-8368-CB95E3DB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C122-FDAE-48E2-8427-07D8FC99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5C65-08E1-4536-925D-4A4DC202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C51D-BBEB-4676-A881-19E6A199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9BEB-6C90-4F03-8D78-F9696C37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875C-5667-4499-9418-3A86879A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1DAE-1D37-493D-9CAC-EF904402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5760F5-BCAD-4E62-A670-3F32B243D4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