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9483"/>
        <c:axId val="69263344"/>
      </c:barChart>
      <c:catAx>
        <c:axId val="8219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63344"/>
        <c:crosses val="autoZero"/>
        <c:auto val="1"/>
        <c:lblAlgn val="ctr"/>
        <c:lblOffset val="100"/>
        <c:noMultiLvlLbl val="0"/>
      </c:catAx>
      <c:valAx>
        <c:axId val="69263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9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38B-157C-4F51-BE0D-03107064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278-494F-4B64-9B64-94889EA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256-70C8-40D2-BF9C-16B53167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9F7-6F3E-45C7-B4F5-CD4B4DB8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378-1C0C-4767-8AE2-E25BE181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F1E-BA47-480A-8797-0554ECB4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86B-0179-4DB5-BB53-A893B5DB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D99-5F85-479E-917B-8DFE08BF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878-0E66-42EC-AC1F-29DCF147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234-82DA-424D-8AF5-20B640F4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0EF-9842-48FD-8E30-AE59BB2A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DFA-D5B4-4756-92EB-CCC0B231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888DE-03E1-4CA1-95CF-D7920F085F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