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49236"/>
        <c:axId val="21277702"/>
      </c:barChart>
      <c:catAx>
        <c:axId val="53849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77702"/>
        <c:crosses val="autoZero"/>
        <c:auto val="1"/>
        <c:lblAlgn val="ctr"/>
        <c:lblOffset val="100"/>
        <c:noMultiLvlLbl val="0"/>
      </c:catAx>
      <c:valAx>
        <c:axId val="21277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49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1C1-8B1D-4BEE-AEED-4492E48C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0FC-2BE1-4BC9-968F-3D62A1B6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E22-04DD-4ADC-8EFF-D784580F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306-BE12-4529-B095-86DC7389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D58-DC7A-4571-AD89-B53F8447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EBE-4CBF-4E25-A8DC-C81262D8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DE8-2B2E-450D-9333-67EBD9A9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216-4F34-4D8B-A091-34143926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DE6-B891-4548-B111-EB719B06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92E-1B13-48F3-890D-1AC8FD65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082-5169-465A-B3BA-C000BB3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809-5E3A-4499-92FC-1629E70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AB568-122F-4954-8945-3350452894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