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566341"/>
        <c:axId val="50525434"/>
      </c:barChart>
      <c:catAx>
        <c:axId val="195663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25434"/>
        <c:crosses val="autoZero"/>
        <c:auto val="1"/>
        <c:lblAlgn val="ctr"/>
        <c:lblOffset val="100"/>
        <c:noMultiLvlLbl val="0"/>
      </c:catAx>
      <c:valAx>
        <c:axId val="505254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663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B9D0-2FDF-4764-A786-D9E0A7EE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F8D0-F7E6-4B04-A1CD-7777C80E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7E87-13EF-47C5-A22D-636227C2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F8DA-9796-4387-93C1-76D87A85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3289-1019-4FBF-9770-34D014A0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B507-1B9E-424A-A0A6-2755F986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5371-0E88-4086-921A-16382E1D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C257-6740-4C92-9EA6-AF5A326D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39F9-5E61-4AFB-8D21-6E243A34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C3E6-8277-4054-8E8C-50A78BB7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28CA-00FF-4DE9-983F-981965B3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A953-2D23-46EC-B659-68271B5C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08079-68C4-4D33-9CC7-0821BEF45C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