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17975"/>
        <c:axId val="48101108"/>
      </c:barChart>
      <c:catAx>
        <c:axId val="78017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01108"/>
        <c:crosses val="autoZero"/>
        <c:auto val="1"/>
        <c:lblAlgn val="ctr"/>
        <c:lblOffset val="100"/>
        <c:noMultiLvlLbl val="0"/>
      </c:catAx>
      <c:valAx>
        <c:axId val="48101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17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ADD-3C59-479F-AB00-23198E84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1C9-4324-42F5-917D-E141FB6A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C3F-A2B4-455B-99C1-4AA3CC68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A3A-B16B-42E7-9AF2-AC9DB80F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B86-A754-447D-9B69-E82A60CA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1D9-125A-40B6-9708-F2D1A06B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47C-9D0B-470C-877F-7394B598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F5F-9A15-474D-8A72-20E447B0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84D-F878-4F84-B473-EC1765CB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94E-C3A1-4384-90BB-D363F582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B34-2020-46C4-8E64-51CD107F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930-B6BD-44E8-8E7A-88757096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DF612-8DDF-42C4-830C-AC310899DD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