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52422"/>
        <c:axId val="99300756"/>
      </c:barChart>
      <c:catAx>
        <c:axId val="68752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0756"/>
        <c:crosses val="autoZero"/>
        <c:auto val="1"/>
        <c:lblAlgn val="ctr"/>
        <c:lblOffset val="100"/>
        <c:noMultiLvlLbl val="0"/>
      </c:catAx>
      <c:valAx>
        <c:axId val="9930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2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8A6-777F-466A-8AE6-212825CA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4B6-415A-485F-9288-F911835B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703-CBDF-45F5-B933-7E8055F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48F-9F6B-4786-9D57-E3736ADC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496-887F-4427-B472-4391338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A68-B896-47FB-88BC-4F6CC08F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0AF-6EA6-491C-BE01-331F5357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6A4-2EE0-4200-B0A6-CFC22BF6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0DC-447B-4FE4-88FE-F44AD8CA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D04-1D04-4C56-81CC-D436EE3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A72-F8C6-45E3-8CF1-B415A6F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674-4D5B-4DCC-8185-97EAC4B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8C0E9-85D6-47B3-8748-C0D5B11F0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