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08153"/>
        <c:axId val="38726334"/>
      </c:barChart>
      <c:catAx>
        <c:axId val="28908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6334"/>
        <c:crosses val="autoZero"/>
        <c:auto val="1"/>
        <c:lblAlgn val="ctr"/>
        <c:lblOffset val="100"/>
        <c:noMultiLvlLbl val="0"/>
      </c:catAx>
      <c:valAx>
        <c:axId val="38726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8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EB3-948F-44CF-865F-849153FE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D91-B88D-47D7-955C-66479D2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54E-4DB9-44AA-A3DD-3FF3A392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AC8-CB78-43BD-B4D6-4095765C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8AF-5413-4687-B3BC-03F6699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2E8-023E-4131-89C4-BE6AAAE6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A52-9608-4B87-BE98-0B97887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CE7-DE4D-4F75-82B0-8F1FF5C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DAF-7FB7-4E96-8C96-5A8C914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D28-1D5E-4392-A44C-337215E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A0E-9B1D-4E91-B989-3F80170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B31-10C4-437C-8889-DEE21A6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2DF56-41EC-4388-B96E-AFDD4BC8A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